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wmf" ContentType="image/x-wmf"/>
  <Override PartName="/ppt/media/image5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A957-D6B9-4CFA-9E7F-62C72555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7A5-6CAA-48E3-AAB7-2E3A05C6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B85B-5800-4681-8889-05E93B75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243-60FA-4924-93F6-2F07C63F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96AA-1BDE-44D8-8606-1CCF855B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AF0D-1000-4297-81D3-D9C41C46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5FE0-4504-40C4-963C-A7C46B24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917C-04A1-450B-B35F-3E93C95C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0593-A349-47A7-8F0D-67E4CE9D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2E46-9FC1-4563-814E-EB905A04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7779-4F4F-4B49-91CE-25174642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15C-142C-4ED9-B276-9D9DBF38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C7AC-294E-44A2-92A0-3F0043C7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CABA-BA9E-466F-A177-09CCE62A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35BC-83F8-4FCF-AD59-60123CE3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5C40-776A-44F9-8528-3EDF855B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4FDD-8E61-4A83-BBC5-F7E86474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1B997-4C00-4A02-B9B5-02135225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D378F-7C97-45EB-8AA1-89263A54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7D5D1-25D6-42E3-801C-37B0DDB6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FDB93-D38D-4FC9-9862-C0C0AD49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7256F-6BDF-439A-9A7C-2C7CF569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0B2-8146-4119-8A8F-E1A77499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53620-A624-4151-AD81-7DD12FB7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5EDB0-1632-408F-96C2-1F2CFD52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08AE3-6B61-41CE-A758-E4FE5E8C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46C2A-4D4D-48CB-8BD6-D2D8E4B3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3811C-9D68-40CD-817D-7494EF39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6B080-585B-4809-859D-55A50491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00B7A-48B5-433A-9B47-A44ACC2F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BAD48-9DC8-49B6-AE78-5301F02B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83656-9046-413E-A29C-60CFB9AD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DC9A1-4657-4695-A130-0111CD71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905-6545-4148-9C61-EBAC847B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89D45-C2BF-4FD6-92E1-9DD95D39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676F3-C541-486A-9FAB-F1443116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1C2A1-B391-4159-8A0C-058E59DD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441B7-91AE-45FE-BE6E-3C873475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0131F-19C7-4CE1-8734-F56BA696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30880-5C22-40B6-8E23-F3723749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0CEF7-4679-4725-A657-50E3EB94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092F8-13F0-4D81-BD82-BD0645E0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FDC79-B223-4D22-8425-38A5B41E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EF5-D099-4B2F-BE29-8A1FE2BB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97F2-072E-4541-8B2D-DAB51CA8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BC3D-5258-4B1D-AE06-B92479A1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AE1-A52D-4036-9074-987EC846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97E7-2FA9-418B-9897-9F0BECFB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4FFD-11A5-46B1-B658-8DBD55D968E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E1C3-B85D-417F-B6DE-C6EF60D79E6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22E7-4954-4465-8E61-CEE59847209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67B1-ECFB-477E-9FCC-ECDDE99DE09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ttp://ptobal.files.wordpress.com/2008/04/nino-y-television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Title 1" descr=""/>
          <p:cNvPicPr/>
          <p:nvPr/>
        </p:nvPicPr>
        <p:blipFill>
          <a:blip r:embed="rId3"/>
          <a:stretch/>
        </p:blipFill>
        <p:spPr>
          <a:xfrm>
            <a:off x="225360" y="4260960"/>
            <a:ext cx="7040520" cy="23716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702480" y="5791320"/>
            <a:ext cx="2441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Jenny Clift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Gena Omelyaneko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Tori Langan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Analysis and Conclusion (2</a:t>
            </a:r>
            <a:r>
              <a:rPr b="0" lang="en-US" sz="4000" spc="-1" strike="noStrike" baseline="30000">
                <a:solidFill>
                  <a:srgbClr val="0bd0d9"/>
                </a:solidFill>
                <a:latin typeface="바탕"/>
              </a:rPr>
              <a:t>nd</a:t>
            </a: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 Test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바탕"/>
              </a:rPr>
              <a:t>The bar graphs for the primetime and daytime were almost identical in ratin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바탕"/>
              </a:rPr>
              <a:t>Although the primetime block had more commercials shown, the proportions between the </a:t>
            </a:r>
            <a:r>
              <a:rPr b="0" i="1" lang="en-US" sz="2400" spc="-1" strike="noStrike">
                <a:solidFill>
                  <a:srgbClr val="dbf5f9"/>
                </a:solidFill>
                <a:latin typeface="바탕"/>
              </a:rPr>
              <a:t>no’</a:t>
            </a:r>
            <a:r>
              <a:rPr b="0" lang="en-US" sz="2400" spc="-1" strike="noStrike">
                <a:solidFill>
                  <a:srgbClr val="dbf5f9"/>
                </a:solidFill>
                <a:latin typeface="바탕"/>
              </a:rPr>
              <a:t>s and the </a:t>
            </a:r>
            <a:r>
              <a:rPr b="0" i="1" lang="en-US" sz="2400" spc="-1" strike="noStrike">
                <a:solidFill>
                  <a:srgbClr val="dbf5f9"/>
                </a:solidFill>
                <a:latin typeface="바탕"/>
              </a:rPr>
              <a:t>yes’</a:t>
            </a:r>
            <a:r>
              <a:rPr b="0" lang="en-US" sz="2400" spc="-1" strike="noStrike">
                <a:solidFill>
                  <a:srgbClr val="dbf5f9"/>
                </a:solidFill>
                <a:latin typeface="바탕"/>
              </a:rPr>
              <a:t>s for both times was very simil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Assumption for 3</a:t>
            </a:r>
            <a:r>
              <a:rPr b="0" lang="en-US" sz="4000" spc="-1" strike="noStrike" baseline="30000">
                <a:solidFill>
                  <a:srgbClr val="33cccc"/>
                </a:solidFill>
                <a:latin typeface="바탕"/>
              </a:rPr>
              <a:t>rd</a:t>
            </a: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 Tes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바탕"/>
              </a:rPr>
              <a:t>S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바탕"/>
              </a:rPr>
              <a:t>All expected counts &gt; (or equal to)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8320" y="2514600"/>
            <a:ext cx="403848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바탕"/>
              </a:rPr>
              <a:t>Not S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바탕"/>
              </a:rPr>
              <a:t>Not all counts &gt; (or equal to)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586728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*Not all assumptions pass, but we will continue with the test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981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바탕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1981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바탕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NBC, ABC, CB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Chi-square Tes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Ho: The channel and the type of commercial shown are independ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Ha: The channel and the type of commercial shown are depend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 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= </a:t>
            </a:r>
            <a:r>
              <a:rPr b="0" lang="en-US" sz="1800" spc="-1" strike="noStrike" u="sng">
                <a:solidFill>
                  <a:srgbClr val="dbf5f9"/>
                </a:solidFill>
                <a:uFillTx/>
                <a:latin typeface="바탕"/>
              </a:rPr>
              <a:t>(6-9)</a:t>
            </a:r>
            <a:r>
              <a:rPr b="0" lang="en-US" sz="1800" spc="-1" strike="noStrike" u="sng">
                <a:solidFill>
                  <a:srgbClr val="dbf5f9"/>
                </a:solidFill>
                <a:uFillTx/>
                <a:latin typeface="바탕"/>
                <a:ea typeface="Times New Roman"/>
              </a:rPr>
              <a:t>²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 + </a:t>
            </a:r>
            <a:r>
              <a:rPr b="0" lang="en-US" sz="1800" spc="-1" strike="noStrike" u="sng">
                <a:solidFill>
                  <a:srgbClr val="dbf5f9"/>
                </a:solidFill>
                <a:uFillTx/>
                <a:latin typeface="바탕"/>
              </a:rPr>
              <a:t>(9-4.34)</a:t>
            </a:r>
            <a:r>
              <a:rPr b="0" lang="en-US" sz="1800" spc="-1" strike="noStrike" u="sng">
                <a:solidFill>
                  <a:srgbClr val="dbf5f9"/>
                </a:solidFill>
                <a:uFillTx/>
                <a:latin typeface="바탕"/>
                <a:ea typeface="Times New Roman"/>
              </a:rPr>
              <a:t>²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 + … = 30.25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       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9           4.3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P(</a:t>
            </a:r>
            <a:r>
              <a:rPr b="0" lang="en-US" sz="1800" spc="-1" strike="noStrike">
                <a:solidFill>
                  <a:srgbClr val="dbf5f9"/>
                </a:solidFill>
                <a:latin typeface="바탕"/>
                <a:ea typeface="Times New Roman"/>
              </a:rPr>
              <a:t>χ ² &gt; 30.259 / df = 12) = .002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We reject Ho because our p-value &lt; α=0.05. We have sufficient evidence to say that the channel and the type of commercial shown are dependent, therefore some channels specifically show more of one type of commercial than other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ChiSquareFormula2" descr="http://mailer.fsu.edu/~slosh/ChiSquareFormula2.JPG"/>
          <p:cNvPicPr/>
          <p:nvPr/>
        </p:nvPicPr>
        <p:blipFill>
          <a:blip r:embed="rId3"/>
          <a:stretch/>
        </p:blipFill>
        <p:spPr>
          <a:xfrm>
            <a:off x="533520" y="2971800"/>
            <a:ext cx="27892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Visual Statistics (3</a:t>
            </a:r>
            <a:r>
              <a:rPr b="0" lang="en-US" sz="4000" spc="-1" strike="noStrike" baseline="30000">
                <a:solidFill>
                  <a:srgbClr val="33cccc"/>
                </a:solidFill>
                <a:latin typeface="바탕"/>
              </a:rPr>
              <a:t>rd</a:t>
            </a: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 Test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4" name="Chart 2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3276720" cy="2362320"/>
          </a:xfrm>
          <a:prstGeom prst="rect">
            <a:avLst/>
          </a:prstGeom>
          <a:ln w="0">
            <a:noFill/>
          </a:ln>
        </p:spPr>
      </p:pic>
      <p:pic>
        <p:nvPicPr>
          <p:cNvPr id="265" name="Chart 1" descr=""/>
          <p:cNvPicPr/>
          <p:nvPr/>
        </p:nvPicPr>
        <p:blipFill>
          <a:blip r:embed="rId4"/>
          <a:stretch/>
        </p:blipFill>
        <p:spPr>
          <a:xfrm>
            <a:off x="228600" y="4114800"/>
            <a:ext cx="3276720" cy="2362320"/>
          </a:xfrm>
          <a:prstGeom prst="rect">
            <a:avLst/>
          </a:prstGeom>
          <a:ln w="0">
            <a:noFill/>
          </a:ln>
        </p:spPr>
      </p:pic>
      <p:pic>
        <p:nvPicPr>
          <p:cNvPr id="266" name="Chart 3" descr=""/>
          <p:cNvPicPr/>
          <p:nvPr/>
        </p:nvPicPr>
        <p:blipFill>
          <a:blip r:embed="rId5"/>
          <a:stretch/>
        </p:blipFill>
        <p:spPr>
          <a:xfrm>
            <a:off x="3657600" y="1600200"/>
            <a:ext cx="3276720" cy="2362320"/>
          </a:xfrm>
          <a:prstGeom prst="rect">
            <a:avLst/>
          </a:prstGeom>
          <a:ln w="0">
            <a:noFill/>
          </a:ln>
        </p:spPr>
      </p:pic>
      <p:pic>
        <p:nvPicPr>
          <p:cNvPr id="267" name="Chart 4" descr=""/>
          <p:cNvPicPr/>
          <p:nvPr/>
        </p:nvPicPr>
        <p:blipFill>
          <a:blip r:embed="rId6"/>
          <a:stretch/>
        </p:blipFill>
        <p:spPr>
          <a:xfrm>
            <a:off x="3657600" y="4038480"/>
            <a:ext cx="5257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Analysis and Conclusion (3</a:t>
            </a:r>
            <a:r>
              <a:rPr b="0" lang="en-US" sz="4000" spc="-1" strike="noStrike" baseline="30000">
                <a:solidFill>
                  <a:srgbClr val="33cccc"/>
                </a:solidFill>
                <a:latin typeface="바탕"/>
              </a:rPr>
              <a:t>rd</a:t>
            </a: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 Test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바탕"/>
              </a:rPr>
              <a:t>According to the overall bar graph for the three networks, NBC had at least ten more insurance commercials than CBS and AB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바탕"/>
              </a:rPr>
              <a:t>Another notable difference: CBS had virtually no female-based commercials shown during the allotted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바탕"/>
              </a:rPr>
              <a:t>For the most part, the </a:t>
            </a:r>
            <a:r>
              <a:rPr b="0" i="1" lang="en-US" sz="2600" spc="-1" strike="noStrike">
                <a:solidFill>
                  <a:srgbClr val="dbf5f9"/>
                </a:solidFill>
                <a:latin typeface="바탕"/>
              </a:rPr>
              <a:t>other</a:t>
            </a:r>
            <a:r>
              <a:rPr b="0" lang="en-US" sz="2600" spc="-1" strike="noStrike">
                <a:solidFill>
                  <a:srgbClr val="dbf5f9"/>
                </a:solidFill>
                <a:latin typeface="바탕"/>
              </a:rPr>
              <a:t> and the </a:t>
            </a:r>
            <a:r>
              <a:rPr b="0" i="1" lang="en-US" sz="2600" spc="-1" strike="noStrike">
                <a:solidFill>
                  <a:srgbClr val="dbf5f9"/>
                </a:solidFill>
                <a:latin typeface="바탕"/>
              </a:rPr>
              <a:t>other shows</a:t>
            </a:r>
            <a:r>
              <a:rPr b="0" lang="en-US" sz="2600" spc="-1" strike="noStrike">
                <a:solidFill>
                  <a:srgbClr val="dbf5f9"/>
                </a:solidFill>
                <a:latin typeface="바탕"/>
              </a:rPr>
              <a:t> categories were fairly similar in all thre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Bias and Error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We only watched certain shows, and they were not picked at rand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The channels we watched were not picked at random(ABC, NBC and CBS) but they are the major network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Differences in half-hour shows and hour shows could have an effect on the resul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Another affect could be weekend vs. weekda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A show we watched for two hours had an effect on the results because it was a golfing tournament and ¾ of the commercials were focused on m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Application to Population and Personal Opin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Our conclusion about this project was not as straightforward and accurate as it could have been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Watching at the same exact times as the other members of our group could have made the results more accurat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It also tended to get very boring watching daytime shows on the networks during the weekend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We assumed that during the daytime there would be more female-based commercials, and it ended up being an equal amount between the block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The population’s results may or may not be different because of different networks across the state and country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Conclus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All in all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The Food Network does indeed have an increased number of food commercials over the average network (NBC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Female-based commercials rate equally in the daytime and primetime block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And even though ABC, CBS, and NBC are all the top-dog networks and are similar in our minds, our study’s results prove that the channels show more of one type of commercial over other typ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Backgroun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28240" y="137160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The first TV commercial was broadcasted on July 1, 194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It was on the New York station WNB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The ad was ten seconds long and advertised a watchmak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The cost of a commercial depends on the number of view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The cost of a 30 second ad during the 2010 Super bowl, one of the most watched programs, cost 2.6 millions dolla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television07" descr="http://flowtv.org/wp-content/uploads/2008/10/television07.png"/>
          <p:cNvPicPr/>
          <p:nvPr/>
        </p:nvPicPr>
        <p:blipFill>
          <a:blip r:embed="rId3"/>
          <a:stretch/>
        </p:blipFill>
        <p:spPr>
          <a:xfrm>
            <a:off x="5029200" y="2362320"/>
            <a:ext cx="382284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Procedur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Watched TV commercials on different channels during different times and recorded their types and how many for ea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Watched Food network and ABC to compare number of food commercials for ea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We each watched one network (ABC, NBC, or CBS) and cited the types of commercials and their numb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바탕"/>
              </a:rPr>
              <a:t>Collected all of the recorded female commercials for both daytime and primetime (on NBC) and compar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Assumptions for 1</a:t>
            </a:r>
            <a:r>
              <a:rPr b="0" lang="en-US" sz="4000" spc="-1" strike="noStrike" baseline="30000">
                <a:solidFill>
                  <a:srgbClr val="0bd0d9"/>
                </a:solidFill>
                <a:latin typeface="바탕"/>
              </a:rPr>
              <a:t>st</a:t>
            </a: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 Tes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바탕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바탕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574560" indent="-4572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2 independent S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n₁p₁ ≥ 1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n₁ (1-p₁) ≥ 1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n₂p₂ ≥ 1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n₂(1-p₂) ≥ 1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3.      pop. (1) ≥ 10n₁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pop. (2) ≥ 10n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Content Placeholder 5" descr=""/>
          <p:cNvPicPr/>
          <p:nvPr/>
        </p:nvPicPr>
        <p:blipFill>
          <a:blip r:embed="rId3"/>
          <a:stretch/>
        </p:blipFill>
        <p:spPr>
          <a:xfrm>
            <a:off x="4648320" y="2438280"/>
            <a:ext cx="4054320" cy="39322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6"/>
          <p:cNvSpPr/>
          <p:nvPr/>
        </p:nvSpPr>
        <p:spPr>
          <a:xfrm>
            <a:off x="228600" y="6019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*Not all assumptions pass, but we will continue with the test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Food Channel vs. ABC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56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2 proportion z-tes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Ho: P1 = P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Ha: P1 &gt; P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z=3.652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p(z &gt; 3.6529) = 1.2967 x 10^-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We reject Ho because our p-value &lt; α=0.05. We have sufficient evidence that the proportion of food commercials on Food network  is greater than the proportion of food commercials on ABC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4952880" y="20574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P1= Food Chann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P2= AB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http://www.brocksoft.ca/bcorp/tools/stats/statsgifs/z_compare2proportions.gif"/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457200" y="2819520"/>
            <a:ext cx="146052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Visual Statistics, Analysis, and Conclusion (1</a:t>
            </a:r>
            <a:r>
              <a:rPr b="0" lang="en-US" sz="4000" spc="-1" strike="noStrike" baseline="30000">
                <a:solidFill>
                  <a:srgbClr val="0bd0d9"/>
                </a:solidFill>
                <a:latin typeface="바탕"/>
              </a:rPr>
              <a:t>st</a:t>
            </a: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 Test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There were overall a greater number of commercials recorded on the Food network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The Food network did, in fact, have a larger number of food commercials than ABC di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We were surprised by how little food commercials there were when compared to the total numb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5638680" y="1371600"/>
            <a:ext cx="3200400" cy="2612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5257800" y="4038480"/>
            <a:ext cx="3171960" cy="259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200" y="228600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Assumptions </a:t>
            </a: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for</a:t>
            </a: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 </a:t>
            </a: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2</a:t>
            </a:r>
            <a:r>
              <a:rPr b="0" lang="en-US" sz="4000" spc="-1" strike="noStrike" baseline="30000">
                <a:solidFill>
                  <a:srgbClr val="33cccc"/>
                </a:solidFill>
                <a:latin typeface="바탕"/>
              </a:rPr>
              <a:t>nd</a:t>
            </a:r>
            <a:r>
              <a:rPr b="0" lang="en-US" sz="4000" spc="-1" strike="noStrike">
                <a:solidFill>
                  <a:srgbClr val="33cccc"/>
                </a:solidFill>
                <a:latin typeface="바탕"/>
              </a:rPr>
              <a:t> Tes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바탕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바탕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574560" indent="-4572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2 independent S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n₁p₁ ≥ 1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n₁ (1-p₁) ≥ 1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n₂p₂ ≥ 1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n₂(1-p₂) ≥ 1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3.      pop. (1) ≥ 10n₁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	</a:t>
            </a:r>
            <a:r>
              <a:rPr b="0" lang="en-US" sz="2200" spc="-1" strike="noStrike">
                <a:solidFill>
                  <a:srgbClr val="dbf5f9"/>
                </a:solidFill>
                <a:latin typeface="바탕"/>
              </a:rPr>
              <a:t>pop. (2) ≥ 10n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74560" indent="-4572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Content Placeholder 5" descr=""/>
          <p:cNvPicPr/>
          <p:nvPr/>
        </p:nvPicPr>
        <p:blipFill>
          <a:blip r:embed="rId3"/>
          <a:stretch/>
        </p:blipFill>
        <p:spPr>
          <a:xfrm>
            <a:off x="4638600" y="2432160"/>
            <a:ext cx="4054680" cy="39322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228600" y="6019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*Not all assumptions pass, but we will continue with the test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9525240" cy="16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Female-based commercials on NBC:</a:t>
            </a:r>
            <a:br>
              <a:rPr sz="4000"/>
            </a:b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Daytime vs. Primetim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2 proportion z-tes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Ho: P1 = P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Ha: P1 &lt; P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z=-.62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p(z &lt; -.6289) = .264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We fail to reject Ho because our p-value &gt; α=0.05. We have sufficient evidence to say that there is an equal amount of female commercials during the daytime block and during the primetime block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2666880" y="22096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P1= # of female commercials during daytim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바탕"/>
              </a:rPr>
              <a:t>P2= # of female commercials during primetim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http://www.brocksoft.ca/bcorp/tools/stats/statsgifs/z_compare2proportions.gif"/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380880" y="2895480"/>
            <a:ext cx="14605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http://ptobal.files.wordpress.com/2008/04/nino-y-television.jpg"/>
          <p:cNvPicPr/>
          <p:nvPr/>
        </p:nvPicPr>
        <p:blipFill>
          <a:blip r:embed="rId2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Visual Statistics (2</a:t>
            </a:r>
            <a:r>
              <a:rPr b="0" lang="en-US" sz="4000" spc="-1" strike="noStrike" baseline="30000">
                <a:solidFill>
                  <a:srgbClr val="0bd0d9"/>
                </a:solidFill>
                <a:latin typeface="바탕"/>
              </a:rPr>
              <a:t>nd</a:t>
            </a:r>
            <a:r>
              <a:rPr b="0" lang="en-US" sz="4000" spc="-1" strike="noStrike">
                <a:solidFill>
                  <a:srgbClr val="0bd0d9"/>
                </a:solidFill>
                <a:latin typeface="바탕"/>
              </a:rPr>
              <a:t> Test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3"/>
          <a:stretch/>
        </p:blipFill>
        <p:spPr>
          <a:xfrm>
            <a:off x="152280" y="1752480"/>
            <a:ext cx="4191120" cy="3124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4"/>
          <a:stretch/>
        </p:blipFill>
        <p:spPr>
          <a:xfrm>
            <a:off x="4495680" y="3505320"/>
            <a:ext cx="4389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1:29:25Z</dcterms:created>
  <dc:creator> </dc:creator>
  <dc:description/>
  <dc:language>en-US</dc:language>
  <cp:lastModifiedBy> </cp:lastModifiedBy>
  <dcterms:modified xsi:type="dcterms:W3CDTF">2010-06-09T21:24:50Z</dcterms:modified>
  <cp:revision>31</cp:revision>
  <dc:subject/>
  <dc:title>Sit Back, Relax and enjoy the Commercials</dc:title>
</cp:coreProperties>
</file>